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2BB6-960D-4617-98BD-202A92EA9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5F75-7419-448E-8ADF-A579FD71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38DD-D842-4D27-BE16-CC61080CD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2963-631F-4A22-AE2D-B12BE5552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6333-869C-4C6A-A5C5-780FF04EB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F5B5-5627-4CF4-8373-CFC855F2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E284-0198-48D5-9AAB-97B1E14D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E418-02A7-4AFE-9CE9-26787858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DFCD-7264-410F-B434-37B49AB5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9C75-91E2-4F0E-B3B8-06E31A2D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214B-5270-4E7F-9019-7A08236B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0B8B-FD18-41E2-8476-5D3721AE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8770-4DCA-4E1B-82DC-5B0A8AD5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BF91-2592-46B1-A522-A5A215B8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E77A-49E7-4AD4-9795-8E2DE66F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070B-835E-4652-87F5-F7E0BD1E5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CA4D-3EB4-49C0-BC6A-A7552255F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D1F5-1B50-47F3-B90C-CA534D9F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8131-DD1B-419C-9158-5A6B20CF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454F-19E4-41D7-BF74-F47419E7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8243-52AA-4B16-835B-628DFD4B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76E2-680C-4C58-ACF0-EBDCC4A0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15C8-68EC-4ACF-83D1-E1E9D510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5A01-99B0-4ACA-AA37-42A87EF0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4f4f4f"/>
                </a:gs>
                <a:gs pos="100000">
                  <a:srgbClr val="5454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646464"/>
                </a:gs>
                <a:gs pos="100000">
                  <a:srgbClr val="5454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A08C-54B2-4EF8-9BD1-20631E3EC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474747"/>
                </a:gs>
                <a:gs pos="100000">
                  <a:srgbClr val="5454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646464"/>
                </a:gs>
                <a:gs pos="100000">
                  <a:srgbClr val="5454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5C1E-DBA3-4AAF-BFC1-E24F0D0A51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Wpływ biernego palenia na zdrowie człowieka</a:t>
            </a:r>
            <a:endParaRPr b="0" lang="en-US" sz="5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45716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kcja Oświaty Zdrowotnej i Promocji Zdrow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wiatowa Stacja Sanitarno – Epidemiologiczna w Toruni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6095880" y="3429000"/>
            <a:ext cx="2497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-73296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519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Specjaliści odnotowują wiele przypadków zachorowań na choroby odtytoniowe wśród osób, które nigdy nie paliły tytoni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Boczny strumień dymu tytoniowego zawiera wiele substancji </a:t>
            </a:r>
            <a:r>
              <a:rPr b="1" lang="pl-PL" sz="2800" spc="-1" strike="noStrike">
                <a:solidFill>
                  <a:srgbClr val="ffff66"/>
                </a:solidFill>
                <a:latin typeface="Arial"/>
                <a:ea typeface="Arial"/>
              </a:rPr>
              <a:t>alergizujących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, powodujących </a:t>
            </a:r>
            <a:r>
              <a:rPr b="1" lang="pl-PL" sz="2800" spc="-1" strike="noStrike">
                <a:solidFill>
                  <a:srgbClr val="ffff66"/>
                </a:solidFill>
                <a:latin typeface="Arial"/>
                <a:ea typeface="Arial"/>
              </a:rPr>
              <a:t>łzawienie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pl-PL" sz="2800" spc="-1" strike="noStrike">
                <a:solidFill>
                  <a:srgbClr val="ffff66"/>
                </a:solidFill>
                <a:latin typeface="Arial"/>
                <a:ea typeface="Arial"/>
              </a:rPr>
              <a:t>oczu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, podrażnienie błony śluzowej </a:t>
            </a:r>
            <a:r>
              <a:rPr b="1" lang="pl-PL" sz="2800" spc="-1" strike="noStrike">
                <a:solidFill>
                  <a:srgbClr val="ffff66"/>
                </a:solidFill>
                <a:latin typeface="Arial"/>
                <a:ea typeface="Arial"/>
              </a:rPr>
              <a:t>nosa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pl-PL" sz="2800" spc="-1" strike="noStrike">
                <a:solidFill>
                  <a:srgbClr val="ffff66"/>
                </a:solidFill>
                <a:latin typeface="Arial"/>
                <a:ea typeface="Arial"/>
              </a:rPr>
              <a:t>kaszel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, nawracające </a:t>
            </a:r>
            <a:r>
              <a:rPr b="1" lang="pl-PL" sz="2800" spc="-1" strike="noStrike">
                <a:solidFill>
                  <a:srgbClr val="ffff66"/>
                </a:solidFill>
                <a:latin typeface="Arial"/>
                <a:ea typeface="Arial"/>
              </a:rPr>
              <a:t>zakażenia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 układu oddechowego, a także </a:t>
            </a:r>
            <a:r>
              <a:rPr b="1" lang="pl-PL" sz="2800" spc="-1" strike="noStrike">
                <a:solidFill>
                  <a:srgbClr val="ffff66"/>
                </a:solidFill>
                <a:latin typeface="Arial"/>
                <a:ea typeface="Arial"/>
              </a:rPr>
              <a:t>uczulenia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 i w konsekwencji </a:t>
            </a:r>
            <a:r>
              <a:rPr b="1" lang="pl-PL" sz="2800" spc="-1" strike="noStrike">
                <a:solidFill>
                  <a:srgbClr val="ffff66"/>
                </a:solidFill>
                <a:latin typeface="Arial"/>
                <a:ea typeface="Arial"/>
              </a:rPr>
              <a:t>astmę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5562720" y="4648320"/>
            <a:ext cx="220968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  <a:ea typeface="Arial"/>
              </a:rPr>
              <a:t>Niepokojące fakty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152280" y="1066320"/>
            <a:ext cx="90676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Raport WHO - efekt pierwszego globalnego badania wpływu wdychania dymu tytoniowego przez osoby niepalące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danie uwzględniło dane z lat 2004 - 2010, z 192 krajów na całym świecie. Ta ogromna ilość danych pozwoliła ustalić, że na całym świecie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40% dzieci, 33% niepalących mężczyzn i 35% niepalących kobi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wdycha dym z papierosów wypalanych przez inne osob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Z powodu szkód zdrowotnych spowodowanych biernym paleniem 379 tys. osób umiera  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na choroby serca, 165 tys. na infekcje dolnych dróg oddechowych, prawie 37 tys. na astmę oraz ponad 21 tys. na raka płu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7"/>
          <p:cNvSpPr/>
          <p:nvPr/>
        </p:nvSpPr>
        <p:spPr>
          <a:xfrm>
            <a:off x="304920" y="360360"/>
            <a:ext cx="8458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kspozycja na dym tytoniowy w przypadku dzieci, zwłaszcza tych najmłodszych, prowadzi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częstszego występowani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horób układu oddechowego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horób ucha środkowego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ozwoju astmy i zaostrzenia przebiegu tej chorob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jnowsze badania coraz częściej wskazują też,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że dzieci te cechują się gorszym rozwojem psychofizycznym oraz sprawiają więcej kłopotów wychowawczy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Dzieci narażone na bierne paleni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ą trudności z pisaniem i czytaniem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dności w skupieniu uwagi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dności w przystosowaniu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erpią na zaburzenia układu nerwowego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ulsywność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dwrażliwość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epokój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5410080" y="4343400"/>
            <a:ext cx="28195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153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4d4c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304920"/>
            <a:ext cx="88390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pl-PL" sz="3600" spc="-1" strike="noStrike">
                <a:solidFill>
                  <a:srgbClr val="ffffff"/>
                </a:solidFill>
                <a:latin typeface="Arial"/>
                <a:ea typeface="Arial"/>
              </a:rPr>
              <a:t>Największą dawkę dymu tytoniowego dzieci otrzymują w domu, dlatego tak ważne jest doprowadzenie  </a:t>
            </a:r>
            <a:br>
              <a:rPr sz="3600"/>
            </a:br>
            <a:r>
              <a:rPr b="0" lang="pl-PL" sz="3600" spc="-1" strike="noStrike">
                <a:solidFill>
                  <a:srgbClr val="ffffff"/>
                </a:solidFill>
                <a:latin typeface="Arial"/>
                <a:ea typeface="Arial"/>
              </a:rPr>
              <a:t>do zwiększenia liczby domów  </a:t>
            </a:r>
            <a:br>
              <a:rPr sz="3600"/>
            </a:br>
            <a:r>
              <a:rPr b="0" lang="pl-PL" sz="3600" spc="-1" strike="noStrike">
                <a:solidFill>
                  <a:srgbClr val="ffffff"/>
                </a:solidFill>
                <a:latin typeface="Arial"/>
                <a:ea typeface="Arial"/>
              </a:rPr>
              <a:t>i mieszkań, w których się nie pali, poprzez działania edukacyjn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Dziękuję za uwagę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162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8458200" cy="739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86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86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66"/>
                </a:solidFill>
                <a:latin typeface="Arial"/>
              </a:rPr>
              <a:t>KTO PALI CZĘŚCIEJ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86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6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Najbiedniejsi, najsłabiej wykształceni Polacy palą znacznie częściej (np. bezrobotni mężczyźni ok. 70%) niż osoby lepiej sytuowane z wyższym wykształceniem (wśród mężczyzn ok. 20%, kobiety – 15%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6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Do nałogowego, codziennego palenia tytoniu przyznaje się co trzeci Polak (31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6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Codziennie pali (w grupie mężczyzn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86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36% dwudziestolatków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86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49% trzydziestolatków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86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51% czterdziestolatków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86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53 % pięćdziesięciolatkó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86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86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Mężczyźni w Polsce palą średnio 18 papierosów dziennie, kobiety  13 papierosów, czyniąc tak przez wiele lat (średnio ok. 23 lata w ciągu życia zarówno kobiety jak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i mężczyźni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6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Zaprzestanie palenia następuje stosunkowo późno – u mężczyzn w 39 r.ż., a u kobiet nawet w 43 r.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6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69% mężczyzn i 53% kobiet wypaliło w swoim życiu przynajmniej 1 papiero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6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44 % mężczyzn i 49% kobiet eksperymentując z tytoniem w okresie dzieciństwa lub młodości w dorosłym życiu kontynuowało palenie tytoni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Palący dorosły ma problemy…</a:t>
            </a:r>
            <a:endParaRPr b="0" lang="en-US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układem krążenia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układem oddechowym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płodnością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układem nerwowym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6324480" y="1828800"/>
            <a:ext cx="2533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762120" y="1676520"/>
            <a:ext cx="182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3" descr="palacz"/>
          <p:cNvPicPr/>
          <p:nvPr/>
        </p:nvPicPr>
        <p:blipFill>
          <a:blip r:embed="rId1"/>
          <a:stretch/>
        </p:blipFill>
        <p:spPr>
          <a:xfrm>
            <a:off x="685800" y="150840"/>
            <a:ext cx="7772400" cy="64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66"/>
                </a:solidFill>
                <a:latin typeface="Arial"/>
              </a:rPr>
              <a:t>Diagnoza problemu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alenia tytoniu 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wśród dzieci i młodzieży</a:t>
            </a:r>
            <a:endParaRPr b="0" lang="en-US" sz="36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 Polsce codziennie zaczyna palić pół tysiąca dzieci, a rocznie po pierwszego papierosa sięga  około 180 tys. nieletnich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ukończenia jedenastu la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⅓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zieci ma już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 sobą eksperymentowanie z paleniem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śród piętnastolatków ¼ pali regularni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 lat osiemdziesiątyc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rnie pali więcej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ziewcząt niż chłopcó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5"/>
          <a:stretch/>
        </p:blipFill>
        <p:spPr>
          <a:xfrm>
            <a:off x="5334120" y="4495680"/>
            <a:ext cx="32004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Najważniejsze problemy związane 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z paleniem tytoniu w środowisku 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dzieci i młodzieży</a:t>
            </a:r>
            <a:endParaRPr b="0" lang="en-US" sz="32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niżający się wiek dzieci eksperymentującyc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 papierosami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trzymująca się liczba stałych palących w młodym wieku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e zmniejszająca się liczba palących dziewczą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młodych kobie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jawisko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biernego paleni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śród dziec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5"/>
          <a:stretch/>
        </p:blipFill>
        <p:spPr>
          <a:xfrm>
            <a:off x="6553080" y="4419720"/>
            <a:ext cx="1676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Dym tytoniowy szkodzi niepalącym</a:t>
            </a:r>
            <a:br>
              <a:rPr sz="3600"/>
            </a:br>
            <a:endParaRPr b="0" lang="en-US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m papierosowy zawiera ponad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4 ty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bstancji chemicznych, w tym aż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40 związkó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rakotwórczy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Wdychanie dymu tytoniowego, czyli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ierne paleni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jest równie niebezpieczne jak samo palenie. Boczny strumień dymu tytoniowego zawiera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35 raz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ięcej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dwutlenku węgl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2-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ięcej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nikotyny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ż dym wdychan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zez aktywnych palaczy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4800600" y="3733920"/>
            <a:ext cx="3809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Dym tytoniowy szkodzi niepalącym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ym boczny wydostaje się w ciągu całego czasu palenia papierosa i nie jest filtrowany ani przez filtr papierosowy, ani przez „żywy filtr”, jakim są płuca, dym główny natomiast jest wdychany jedynie przez 20-30 seku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Z</cp:lastModifiedBy>
  <dcterms:modified xsi:type="dcterms:W3CDTF">2013-10-10T07:44:01Z</dcterms:modified>
  <cp:revision>1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